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07F-B595-4FDF-AAE6-B1DCBA97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F49-A07C-4A9E-A94D-6E14D8EA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549-200C-4CD0-84E5-0C35167B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015-D362-4923-807E-B41EF6E9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B272-DFA8-4469-9043-A840CF6B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3FFC-4D1F-4518-9F53-BEF44720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43F1-FAF2-4650-94D6-6D8F8FFD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C7C8-D8BF-4775-8BCC-DCF71893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F105-1E8B-444A-B840-C66E7570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B69-0BF9-40A2-8CA0-D3B27941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23E9-FCAD-4E25-8A11-11AE3D68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B78-AF34-463C-803E-D8D72D53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D2EA-7005-464D-9726-11A80DA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84D4-94C2-4773-83DB-34C2213A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DE51-CFFB-40C7-BBFE-1520A8DC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83DA-4A1A-4850-9A91-45A29E57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803-08A9-41EF-BB16-0A549DEF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6F70-4F50-46E6-AC7D-E91EFBC7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0AA48-63FF-4E77-99AC-E37A9339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D47B-4253-49B0-8CF0-09791C25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18C5-6464-4E55-A6BE-188EA60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1914-E51C-487F-A1E7-BDB31AE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A2C-EA9A-431C-97EA-C115F8FD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3D1B-AE2D-4764-8FF1-63935C29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25384-65C6-4BAB-BB27-4174C0A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B11EF-7EDF-4422-A1A3-A12AB39C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1DE0D-BC75-4D08-A026-4AF6AFB0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A731-30A6-4CA2-BA27-1AAF385E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85770-E9F3-4A46-92EB-069D85BFA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E865-E98C-4CEF-A6A0-9C76C7D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A232-7A58-43A4-A3B1-29E3E747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69250-54B1-4766-9F9C-590B3233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793C6-9B82-449F-B827-6401B49B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BBC-25A3-42A7-9EE9-A27CCF32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DA7A-1F01-4BCC-925D-B1FB9CA3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A3DE-A695-4CDF-9585-6AE55130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DB8F-3476-4083-B8EF-42DBDB2A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FE273-9D03-43D1-9314-242D7C8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5FE57-BA36-4BC3-BF62-00034B3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EF7C-25CB-4EA9-8540-838AA9FB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E030-0F17-47B5-AAE8-2F2E8887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9FB28-557C-4E30-8495-3D0E6F98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8DFD-34BB-4016-9331-AA24B5EA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C43F4-9F7D-413B-B34B-552C7CA5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EFE-B2C8-479E-842E-182466E9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138E-B5F0-4AF3-B1EB-685FCCCB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D4541-7FE2-469E-884A-204B7801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559B-F27B-4AB5-B3B5-9AABAF9F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50C8-26EF-45F5-8079-C55C5AD0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40031-1857-4A38-AE27-DA8EF06C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133B-042B-4885-B8E1-384F08AF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4A03-4203-4D42-8D3A-F9D6CC9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33EF0-C1AF-4BE0-A0D0-06C2E0DA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221C-29A4-4D5A-8234-02FBAF0A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B72A9-F775-45A4-996D-FEAC2828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D8F0-103E-419A-B6E7-D195D25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31FB-E9FE-4CC6-8F5D-FAD135CF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DCD0F-5FB9-42E7-B910-F1EB9F87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4BE01-76F9-40B2-907E-29A9D373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3E65-09A4-471B-B0DE-2FC54B4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44F37-94B1-470E-8535-ECF8FA14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9E50-1BB6-45B4-9911-317ECE1B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BC74-0A63-4A4B-954A-5A60A2D5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1D03-852E-419E-B6B7-95E5C09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4F6F7-0169-45C8-A1A2-4F83F48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68A0-FE94-4443-AC68-E571A9D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54F-9AC8-4A32-A2DD-91928045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2A1D6-4EC8-4576-9117-A3E96133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D2D19-EB32-4F7F-A023-0D5E3144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2760F-18D6-46B2-9F0E-4F35BCC2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754F5-F7A6-4339-95BA-6329DB7B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4914A-67E3-427A-930B-DCF2775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12A04-976D-42C2-AADA-6680C038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2529F-FFA7-47E1-8E50-7C3756C6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8986-68ED-485E-A4BB-CA2141EA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48B09-B758-4721-9B36-5FDCDA5D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B3A86-8712-4EEE-A7F6-028B4E20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866-B5C2-410A-A260-15B7B6BA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9655-2037-42B3-A4AF-B0AB2644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DF6D-4A3B-42F9-B724-6058331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4D048-19EF-4EF3-83EB-BD674129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1992-88ED-4E2C-BB76-1DADBC57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36C4D-33DA-49EF-BFEA-487937C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13E-E9C5-44D3-AB65-F9F8E92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4071-A938-4F43-9178-B0AF77803F6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A9F-3E01-4E50-BC7C-DDC5E70D852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DAB7-754E-40F2-BFAC-9F486AAB42D9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896-1763-44E2-8877-75CA7FAA6EBD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4DA4-F7FB-4192-8565-3C0F4CB54CC3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F4E2-7232-4FED-BD38-AB4DABB5EB2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FFA9-8D3B-45CC-B9EC-310D612B2B4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578-C176-43FA-BCF6-F43B9950643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5251-EDFC-4600-A8F8-EEDF8BB3E12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004-FCE6-4C62-9B9F-3063EACE7FE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F539-AF7C-4E78-BE00-46D9D50713D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D31F-BDF4-4DCC-B7F2-4FCA6E90858B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4D44-65ED-4640-9094-129561224C5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873D-5598-47C0-8A40-9CBC4F2F4DC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Benign&#237;_n&#225;dor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etologie.cz/poradna/dieta-pri-onemocneni-nemoci/rakovina/dieta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07696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Nádorová onemocnění -  vznik, význam, diagnostika, prevence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3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2.2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1600" spc="-1" strike="noStrike">
                <a:solidFill>
                  <a:srgbClr val="ffffff"/>
                </a:solidFill>
                <a:latin typeface="Corbel"/>
              </a:rPr>
              <a:t>Anotace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 Vzdělávací materiál je určen k podpoře výuky předmětu Klinika nemocí v rozsahu jednoho školního roku. Prezentace KLN.2.13 </a:t>
            </a:r>
            <a:r>
              <a:rPr b="1" lang="cs-CZ" sz="1600" spc="-1" strike="noStrike">
                <a:solidFill>
                  <a:srgbClr val="ffffff"/>
                </a:solidFill>
                <a:latin typeface="Arial Black"/>
              </a:rPr>
              <a:t>zahrnuje výklad pojmů: nádor, nádory benigní a maligní, carcinoma in situ, metastázy,vznik, terapie, prevence vzniku nádorů, . Prezentace je zakončena souborem otázek z zopakování a doplněna Pololetním souhrnným testem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 VII. </a:t>
            </a:r>
            <a:br>
              <a:rPr sz="2800"/>
            </a:br>
            <a:endParaRPr b="1" lang="en-US" sz="2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468360" y="5300640"/>
            <a:ext cx="819144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even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yvarování se vlivu nadměrného slunečního záření, pronikavé radiace (RTG…),  kancerogenů (tabákový kouř, uzené maso, vliv chemikálií, ředidel…, plísní, konzervantů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Omezování tuků ve strav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creening / depistáž, preventivní prohlídky, dispenzariz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časná diagnosti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ři pozitivním výsledku vyšetření okamžité zahájení léč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even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výšení konzumace zeleniny, ovoce, vlákni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užívání vhodných materiálů, pracovních postup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Očkov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achovávání hygie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č. duševní hygie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ezneužívání drog a lék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amovyšetř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nádor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menujte co nejvíce příčin vzniku nádorů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opište vlastnosti benigního nádoru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ak se léčí benigní nádor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opište vlastnosti maligního nádoru, jak se léčí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carcinoma in situ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sou metastázy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ak se dá předcházet nádorovým onemocněním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opište zásady nutriční terapie pacientů s nádorovými onemocněním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420640"/>
            <a:ext cx="8077320" cy="26082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NÁDOROVÁ ONEMOCNĚNÍ – VZNIK, VÝZNAM, DIAGNOSTIKA, PREVENCE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znik nádo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Nádor</a:t>
            </a:r>
            <a:r>
              <a:rPr b="0" lang="cs-CZ" sz="2700" spc="-1" strike="noStrike">
                <a:solidFill>
                  <a:srgbClr val="000000"/>
                </a:solidFill>
                <a:latin typeface="Corbel"/>
              </a:rPr>
              <a:t> vzniká přeměnou nenádorových buněk (genetická přeměna = vyřazená apoptóza, nekontrolované množení + faktory, které umožňují progresi nádoru = hormony, chemické l. vs. Obranné mechanismy vyhledávající nádorové buňky, ničící je a zastavující jejich růst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orbel"/>
              </a:rPr>
              <a:t>Růs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orbel"/>
              </a:rPr>
              <a:t>Progrese nádoru = nekontrolované množení buněk + šíření (maligní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1.)benigní nádo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2.) prekanceróz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3.)carcinoma in sit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.) šíření, metastázy - malignit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říčiny vzniku nádo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měny genů (z neznámých důvodů, způsobené kancerogeny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onizační zář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emické látky (kouření, uzení, dusitany, dusičnany, 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ědično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eznám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ýznam BENIGNÍCH nádo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 může poškozovat zdraví a ohrozit život mnoha způsob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BENIGNÍ nádory – 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především místní vliv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- tlak &gt; patologické zlomeniny, obstrukce, otok, atrofie, záněty, sepse, krvácení, potra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ěkteré benigní nádory se mohou časem přeměnit na malig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Terapie BENIGNÍCH NÁDO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Operační odstranění celého nádoru nebo alespoň jeho části – dle možností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ýznam MALIGNÍCH nádo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Jako benigní – lokákní vliv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Narušení až zničení okolních tkání invazivním prorůstáním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Zasažení životně důležitých orgánů metasázam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Bolest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Patologické fraktur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Změny srážlivosti krve ( &gt;trombózy, embolie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achexi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Snížení imun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Vznik těžkých infekcí (vč. oportunních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Recidiv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Terapie MALIGNÍCH NÁDO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Včasné vyhledání a odstranění primárního ložiska  včetně části zdravé okolní tkáně před vznikem metastáz &gt; zabránění recidivy nádor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Diagnostika metastáz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Chemoterapi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Radioterapi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Biologická léčb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Imunologická podpor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Kombina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NOŽSTVÍ NEŽÁDOUCÍCH ÚČINKŮ – poruchy krvetvorby, anémie, trombózy, snížení imunity, poruchy výživy, toxické poškození vnitřních orgánů, únava, nechutenství, poškození kůže a slizni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+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nutriční terapi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8:11:59Z</dcterms:created>
  <dc:creator>Veronika</dc:creator>
  <dc:description/>
  <dc:language>en-US</dc:language>
  <cp:lastModifiedBy>Chalupna</cp:lastModifiedBy>
  <dcterms:modified xsi:type="dcterms:W3CDTF">2014-03-31T21:07:03Z</dcterms:modified>
  <cp:revision>18</cp:revision>
  <dc:subject/>
  <dc:title>Snímek 1</dc:title>
</cp:coreProperties>
</file>